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B37-26EE-49E2-819F-7472EE6F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053-C55B-45C0-80E6-C2E6FFA5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195-3876-49E2-8D5A-3B5CC102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AD1-2979-424B-833A-C2B6514E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6045-1307-4E6B-ADD8-D0D47D43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5C85-089E-44E6-9CF7-3305F710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75C0-25A1-44E7-AB02-375E4065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D3EC-31C4-4527-AB99-D59CEF10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2709-D550-49A3-9A5A-9A518802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B5D7-C3B5-4297-ABF2-1F293DE5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B350-1D19-40E7-8A27-2B73A9D4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1C4-73B8-4E40-B5AC-4FB54F4B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D272-C809-4CE7-8E0F-1E102D0E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1690-C134-4827-AD58-7C91A04E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2740-9F60-4A86-A03C-D16584BB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BA9D-9DCE-45B9-90A0-3278D56B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8671-19B7-484E-A3B6-28063AC4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B70-F513-437D-942F-5E4208A4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C07-BCF3-42F1-8F84-C32D1E9D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77C-0D2C-482D-B38A-14DAB23E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61F-6B2E-4B4D-BADC-938E66B6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C1F-2688-4F8C-8F4C-12558BFC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FEA-0C91-464C-8FF1-3B66419A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D4C-B8AE-4D81-94E1-4922F258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93E5-A902-4768-83D1-3C3D13FA9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5237-0FD5-4D82-BF18-309D648E2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eec94"/>
                </a:solidFill>
                <a:latin typeface="Expletive Deleted"/>
              </a:rPr>
              <a:t>The Pumpkin Life Cycle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pumpkin patch 06 012"/>
          <p:cNvPicPr/>
          <p:nvPr/>
        </p:nvPicPr>
        <p:blipFill>
          <a:blip r:embed="rId1"/>
          <a:stretch/>
        </p:blipFill>
        <p:spPr>
          <a:xfrm>
            <a:off x="2666880" y="1905120"/>
            <a:ext cx="36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ec94"/>
                </a:solidFill>
                <a:latin typeface="Expletive Deleted"/>
              </a:rPr>
              <a:t>First we plant a pumpkin seed.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4" descr="pumpkin patch 06 141"/>
          <p:cNvPicPr/>
          <p:nvPr/>
        </p:nvPicPr>
        <p:blipFill>
          <a:blip r:embed="rId1"/>
          <a:stretch/>
        </p:blipFill>
        <p:spPr>
          <a:xfrm>
            <a:off x="1676520" y="213372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0592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Expletive Deleted"/>
              </a:rPr>
              <a:t>Then the seed begins to grow into a pumpkin sprout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5" descr="PumpkinSprout"/>
          <p:cNvPicPr/>
          <p:nvPr/>
        </p:nvPicPr>
        <p:blipFill>
          <a:blip r:embed="rId1"/>
          <a:stretch/>
        </p:blipFill>
        <p:spPr>
          <a:xfrm>
            <a:off x="1828800" y="22860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ec94"/>
                </a:solidFill>
                <a:latin typeface="Expletive Deleted"/>
              </a:rPr>
              <a:t>The sprout grows into a pumpkin vine.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Picture 5" descr="3-pumpkinVine"/>
          <p:cNvPicPr/>
          <p:nvPr/>
        </p:nvPicPr>
        <p:blipFill>
          <a:blip r:embed="rId1"/>
          <a:stretch/>
        </p:blipFill>
        <p:spPr>
          <a:xfrm>
            <a:off x="1752480" y="2438280"/>
            <a:ext cx="54104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Expletive Deleted"/>
              </a:rPr>
              <a:t>Then the vine grows yellow flowers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Picture 4" descr="pumpkin patch 06 098"/>
          <p:cNvPicPr/>
          <p:nvPr/>
        </p:nvPicPr>
        <p:blipFill>
          <a:blip r:embed="rId1"/>
          <a:stretch/>
        </p:blipFill>
        <p:spPr>
          <a:xfrm>
            <a:off x="1447920" y="2286000"/>
            <a:ext cx="607032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Expletive Deleted"/>
              </a:rPr>
              <a:t>The yellow flowers turn into small green pumpkins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4" descr="pumpkin patch 06 013"/>
          <p:cNvPicPr/>
          <p:nvPr/>
        </p:nvPicPr>
        <p:blipFill>
          <a:blip r:embed="rId1"/>
          <a:stretch/>
        </p:blipFill>
        <p:spPr>
          <a:xfrm>
            <a:off x="1600200" y="2209680"/>
            <a:ext cx="5664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Expletive Deleted"/>
              </a:rPr>
              <a:t>The green pumpkin grows and grows and turns orange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4" descr="pumpkin patch 06 019"/>
          <p:cNvPicPr/>
          <p:nvPr/>
        </p:nvPicPr>
        <p:blipFill>
          <a:blip r:embed="rId1"/>
          <a:stretch/>
        </p:blipFill>
        <p:spPr>
          <a:xfrm>
            <a:off x="2133720" y="2895480"/>
            <a:ext cx="4902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54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ec94"/>
                </a:solidFill>
                <a:latin typeface="Expletive Deleted"/>
              </a:rPr>
              <a:t>When we cut our pumpkin open we can keep some seeds to plant, so we can have more pumpkins to pick next fall.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umpkin patch 06 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20:33:55Z</dcterms:created>
  <dc:creator> </dc:creator>
  <dc:description/>
  <dc:language>en-US</dc:language>
  <cp:lastModifiedBy>teacher</cp:lastModifiedBy>
  <dcterms:modified xsi:type="dcterms:W3CDTF">2011-01-07T22:17:27Z</dcterms:modified>
  <cp:revision>4</cp:revision>
  <dc:subject/>
  <dc:title>The Pumpkin Life Cycle</dc:title>
</cp:coreProperties>
</file>